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94B-4003-4656-BB51-368B6232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3CE-DF4F-4BDE-B022-347F2AA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2AC-B25B-4A69-AF10-C5E29AF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25B-C46C-4F47-AAD0-A092EFE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C86-9445-43CD-BCFF-7734EB53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3D6-7045-45FC-A16F-EC66C5D4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D9A-BFC3-4E88-B055-96E508C6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276-22C3-4F59-88C9-D85C4C16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E27-C125-4D65-8E2A-3A629C5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54F-2804-4C52-8027-E437E41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F90-7735-4A65-BFFB-35086C0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C1F-1E4B-47F4-956F-928BC762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FE4-414D-486D-BC77-E49BB876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hyperlink" Target="http://www.google.ca/imgres?imgurl=http://scitechie.com/wp-content/uploads/2009/12/NuclearEnergy_process.jpg&amp;imgrefurl=http://scitechie.com/12/how-to-build-your-own-nuclear-reactor/&amp;usg=__SrRtbbJWDY6NzDky3YG_HmUm1CY=&amp;h=1474&amp;w=1440&amp;sz=792&amp;hl=en&amp;start=30&amp;zoom=1&amp;tbnid=VNr8GeVnz42DKM:&amp;tbnh=150&amp;tbnw=147&amp;prev=/images%3Fq%3Dnuclear%2Benergy%26start%3D20%26hl%3Den%26safe%3Dactive%26sa%3DN%26gbv%3D2%26tbs%3Disch:1&amp;itbs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521.imageshack.us/img521/1604/bubbleky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765000"/>
            <a:ext cx="8569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Sour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5661000"/>
            <a:ext cx="87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:Jessica von Bers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260880" cy="2517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16000" y="54936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0" y="2492280"/>
            <a:ext cx="400068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8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340160" cy="453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333360"/>
            <a:ext cx="90583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those were the non-renewable energy sourc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00360" y="2349360"/>
            <a:ext cx="2376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uclea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a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10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55640" y="836640"/>
            <a:ext cx="7561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583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nd Ener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86200" cy="50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498920" cy="284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3480" y="236844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16000" y="4724280"/>
            <a:ext cx="1911240" cy="1559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287964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295920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0920" y="1916280"/>
            <a:ext cx="2330280" cy="2447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640" y="189000"/>
            <a:ext cx="74167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ola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332000" y="62064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d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3961080" cy="314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00000" y="1484280"/>
            <a:ext cx="24498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87280" y="981000"/>
            <a:ext cx="678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ose were the renewable sources of energ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76720" y="2205000"/>
            <a:ext cx="25081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ind Energy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lor Energ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ydro Energ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835280" y="260280"/>
            <a:ext cx="54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cl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371760" cy="25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44920" y="907920"/>
            <a:ext cx="5599080" cy="571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042920" y="476280"/>
            <a:ext cx="67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810240" cy="269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4762440" cy="31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34640" cy="689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47640" y="765000"/>
            <a:ext cx="5513400" cy="5513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00:51Z</dcterms:created>
  <dc:creator>HWDSB</dc:creator>
  <dc:description/>
  <dc:language>en-US</dc:language>
  <cp:lastModifiedBy>HWDSB</cp:lastModifiedBy>
  <dcterms:modified xsi:type="dcterms:W3CDTF">2011-01-18T15:26:57Z</dcterms:modified>
  <cp:revision>5</cp:revision>
  <dc:subject/>
  <dc:title>Slide 1</dc:title>
</cp:coreProperties>
</file>